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D45-FAA4-4439-815E-B969F8B1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0BB-FCBA-497D-BB4E-D120375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FA0-0B81-4C61-BA8F-D4076F22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58B-A3F8-4D95-8FA2-EAE83B88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D5FB-A5FF-4DFE-9A07-BC508F9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746C-374A-40BB-8EEC-56A2ED4A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67C8-4F95-43E3-96C6-654000B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4C39-7B14-4A93-A0F9-9F66BCB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AC65-7396-4BB0-89A3-82B5D8BC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4F7-9A0C-44C7-985B-AF9DF280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82F-A313-4DF5-8EF8-0992E5B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656-F4B8-4D29-B1AC-02097F8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293-F41D-41D1-ABBE-00876AC4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4BD1-DB1A-4263-9703-AD1581F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CAE-AA9C-44EF-9379-C829EC86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E66-FB9D-4396-979F-E4D75507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4425-92C3-4787-BFDB-12FB003E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D74-8C8B-4DDD-8290-CD9A303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D74-6697-4F29-8434-7CBC6F0A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459-29EB-4B2C-94A8-6ED3E9A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5F2-DFEF-4EC5-BC50-0E449FC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B67-8337-4E21-B5EC-7ED082B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AC6-A50F-443F-82FE-78ACF29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253-DB94-4676-B1EC-B503FC8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3D3B-3807-42B8-B1B9-ECBBB204B2F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C65F-B5C9-4672-91F2-E1AA07D834D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rcsoft PhotoStudio 5.5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333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ass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sso will let you select object in any shap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Lasso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f you R Click and choose Magnetic Lasso, it will make the lasso “stick” bet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what you want to keep, clicking will make the lasso stick, to finish come back to the start point and double cl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5716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oving an Objec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move an object with the picture to a different spo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Move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part of the picture you want move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If you want to move only part of the picture, use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get your dancing ants.  Now you can move this small part of the pic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If you have layers, you must click 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“Layer” to make it active before mov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5716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ropping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pping will allow you to remove items out of your pictures that isn’t nee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the part of the picture you want to keep with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, Lasso Tool, or Magic Wand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the part of the picture you want to KEEP!!!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will receive “dancing ant” to show what is select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34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rop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removes everything outside the “dancing ants”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571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Paintbrush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place color on a certain area of your pic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color wa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Paintbrush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choose from paint brush, pencil, and spray can depending on you nee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choose round or shape for sty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to dra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hape, click where you want shap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If shape is too small, you picture size can be made smaller to have the shapes appear bigg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713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tamp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place a pre-made stamp on your pi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Stamp To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he color i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orr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ish to change opacity % (how dark the stamp color i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desired st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to draw the stamp on the pi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5713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hape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edge your pi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hape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desired sh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and drag over the area of the picture you want to keep – this will give you a white edg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If you didn’t edge the entire picture, you may need to crop out the extra white 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716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hap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to Colored Background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edge your picture but have a color in the edging versus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 F2 to determine image size (write down height and wid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, New and type in height and 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paint bucket, fill bucket, or gradient fill (see next slide) to recolor the empty pi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original image, R Click and 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empty picture, R Click and Pa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as normal and the coloring should show through, Crop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Gradient Fill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to fill an area with a gradient fi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he colors for your active swatch and alternative sw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Gradient Fill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don’t want Linear, choose the style you wish from the collapsibl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and drag (center of picture) to see gradient f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Pattern of the fill will change depending on how big of little you click and drag.  Smaller – more repeat; Bigger – less repe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oning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you do duplicate a part of a picture.  You may also take part of one picture and clone it into a different pic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lone T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ish to change clone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down the Shift key and click and drag over what you want cloned (source a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up on the shif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click and drag over the area you want the cloned area to show u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IF you are cloning to a different picture, you may need to adjust image size to the clone source isn’t too big or too sm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716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w to Scan an Image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ok scanner to computer via the USB 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PhotoStud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Acquire shortc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Preview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may hit cancel after your pictures are in view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icture should have a box around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If you have multiple pictures, resize the box to be over only one picture, then draw a box around the next picture, continue until all pictures have a box around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Sca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f you have multiple photos, it shows the how many cropp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Scan is done, you must close out of this wind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ow to Save Pictures to Student Driv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picture you are working on to make it ac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e, Save A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r the Save shortcut – it looks like a dis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te to your student drive and open any folders if nee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in a filenam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t will save as a JPEG file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mage Size and Viewing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view image size press F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r View, Image siz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our purpose, a width of 600 in normally big enough.  If you change the width, the height will automatically chan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ze of the picture you see on the screen is not the actual size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otoStudio automatically adjust view size to fit in the window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e actual size go to View, Actual View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et rid of scroll bars, go to View, Fit in Wind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ol Palette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873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2320" y="16002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981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053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l Bu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1911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5720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dient Fi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51814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7432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intbru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04812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1148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8006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ye Dropper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18148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s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43434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When using a tool and you don’t like what happen, just press und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8672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lor Palet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5638680"/>
            <a:ext cx="1143000" cy="10670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91520" y="5791320"/>
            <a:ext cx="129528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lor Palette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s you choose an active swatch and alternative swatch of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active swatch to selec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grid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oose color for active sw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alternative swatch to selec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grid on again, choose color for alternative swat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Which ever swatch in on top of the other will become the active swat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777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Eye Dropper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find a color and places it as your active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Eye Dropper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color in the picture you w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now the active color in your color palet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7168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Fill Bucket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 to fill an area with a color or a patte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Fill Buck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You may change your bucket to a pattern fill (R cli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e color i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Color Palet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orr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F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election Tool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ll or a part of your i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on the 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Selection 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ight click to change shap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cc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and drag over the part of the picture you want selected 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you will receive “dancing ant” to show what is select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49:01Z</dcterms:created>
  <dc:creator>wiesel</dc:creator>
  <dc:description/>
  <dc:language>en-US</dc:language>
  <cp:lastModifiedBy>wiesel</cp:lastModifiedBy>
  <dcterms:modified xsi:type="dcterms:W3CDTF">2010-11-29T21:59:36Z</dcterms:modified>
  <cp:revision>24</cp:revision>
  <dc:subject/>
  <dc:title>Learning Arcsoft PhotoStudio 5.5</dc:title>
</cp:coreProperties>
</file>